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743-1DD8-4F56-8715-89D25DF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89B-1B7F-460B-80E5-956C4A84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33D-C460-43DB-A8FE-5B41C87F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C45-75F3-4909-B965-CAC157EA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308-3C6B-4113-92CD-A0713999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CDF-0CDB-4267-99BC-8A4E09D3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F09-A961-4135-9C83-F3B42240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ED5-3610-4250-8963-E4DA2BC3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74E-3607-47BA-B550-14E4CDF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EB2-C21E-47CE-AD06-4FC82416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897-0EA5-43F9-901B-5D3D0AA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AD9-8DC3-4B13-A72B-CC3C68A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ab"/>
            </a:gs>
            <a:gs pos="100000">
              <a:srgbClr val="ffe5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3A2-287F-4C12-87A5-FCDECAA4A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6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Автор стихов и рисунков</a:t>
            </a:r>
            <a:br>
              <a:rPr sz="2400"/>
            </a:b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Валентина Черн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755640" y="1413000"/>
            <a:ext cx="7777080" cy="23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a50021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БАВНАЯ АРИФМЕТИКА</a:t>
            </a:r>
            <a:endParaRPr b="1" lang="en-US" sz="1800" spc="1" strike="noStrike">
              <a:ln w="38160">
                <a:solidFill>
                  <a:srgbClr val="a50021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268360" y="3068640"/>
            <a:ext cx="4824720" cy="187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СЁЛЫЕ СЧИТАЛКИ</a:t>
            </a:r>
            <a:endParaRPr b="1" lang="en-US" sz="1800" spc="1" strike="noStrike">
              <a:ln w="38160">
                <a:solidFill>
                  <a:srgbClr val="000066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356000" y="371628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65080" cy="803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573408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>
            <a:off x="7885080" y="189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>
            <a:off x="2411280" y="206064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865440" cy="80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>
            <a:off x="7812000" y="2924280"/>
            <a:ext cx="865440" cy="803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932360" cy="47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Кот Корней - рыб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339640" y="404640"/>
            <a:ext cx="44276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На траве лежит улов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йте, сколько штук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Он поймал зубастых щук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колько выловил Корней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лосатых окун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6"/>
          <p:cNvPicPr/>
          <p:nvPr/>
        </p:nvPicPr>
        <p:blipFill>
          <a:blip r:embed="rId1"/>
          <a:stretch/>
        </p:blipFill>
        <p:spPr>
          <a:xfrm>
            <a:off x="1835280" y="2205000"/>
            <a:ext cx="525600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356544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айчики и ё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435640" y="475920"/>
            <a:ext cx="3132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сосчитай-к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на той же кочке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й цветочки.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591"/>
          <p:cNvPicPr/>
          <p:nvPr/>
        </p:nvPicPr>
        <p:blipFill>
          <a:blip r:embed="rId1"/>
          <a:stretch/>
        </p:blipFill>
        <p:spPr>
          <a:xfrm>
            <a:off x="1619280" y="1557360"/>
            <a:ext cx="6003720" cy="5199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755640" y="692280"/>
            <a:ext cx="3780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шки над бугром торчат..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ара — это зайк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за бугром зайчат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2881080" cy="1052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Планета Мартин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0920" y="1413000"/>
            <a:ext cx="324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смонавты прилетел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планету Мартинел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ного видели планет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такой, как эта — нет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ам кристаллов очень мног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де же к кораблю дорога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й скорей кристаллы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х в пути найдёшь немало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о не пропусти их только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ойден путь? Кристаллов 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288"/>
          <p:cNvPicPr/>
          <p:nvPr/>
        </p:nvPicPr>
        <p:blipFill>
          <a:blip r:embed="rId1"/>
          <a:stretch/>
        </p:blipFill>
        <p:spPr>
          <a:xfrm>
            <a:off x="3492360" y="260280"/>
            <a:ext cx="5480280" cy="645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4149720"/>
            <a:ext cx="4932360" cy="503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Чудо-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5280" y="4770000"/>
            <a:ext cx="35272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До чего же хороши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вые карандаш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не рисуют всё под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т — солдаты стали в ряд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в ряду их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А потом они в полё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Запустили самолё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амолётов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92"/>
          <p:cNvPicPr/>
          <p:nvPr/>
        </p:nvPicPr>
        <p:blipFill>
          <a:blip r:embed="rId1"/>
          <a:stretch/>
        </p:blipFill>
        <p:spPr>
          <a:xfrm>
            <a:off x="1042920" y="63360"/>
            <a:ext cx="7128000" cy="3942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5292720" y="4076640"/>
            <a:ext cx="3527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ы-купола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миг раскрасить я смогл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арашютов сколько?</a:t>
            </a: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андашики устали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Чтобы ночью отдыхал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пать в коробку уложу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тром снова разбужу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х в коробке сколь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арнавальные мас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59280" y="836640"/>
            <a:ext cx="3384720" cy="620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Пчёлки и 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96000" y="2204640"/>
            <a:ext cx="334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 цветочки-медоносы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илетели пчёлы, ос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жужжа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Мы, млад и стар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Очень любим пить нектар!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тебе жужжат вопрос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«Сколько пчёлок? Сколько ос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4084"/>
          <p:cNvPicPr/>
          <p:nvPr/>
        </p:nvPicPr>
        <p:blipFill>
          <a:blip r:embed="rId1"/>
          <a:stretch/>
        </p:blipFill>
        <p:spPr>
          <a:xfrm>
            <a:off x="179280" y="549360"/>
            <a:ext cx="5730840" cy="5883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67280" y="-360"/>
            <a:ext cx="30974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Мотыльки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и василь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191280" y="1916280"/>
            <a:ext cx="295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синеют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удо-диво василь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, малыш, мне подскаж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асильков во ржи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идишь колос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ьётся мотыльков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считаю я пока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рылышки у мотыл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4-626"/>
          <p:cNvPicPr/>
          <p:nvPr/>
        </p:nvPicPr>
        <p:blipFill>
          <a:blip r:embed="rId1"/>
          <a:stretch/>
        </p:blipFill>
        <p:spPr>
          <a:xfrm>
            <a:off x="25092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24-626"/>
          <p:cNvPicPr/>
          <p:nvPr/>
        </p:nvPicPr>
        <p:blipFill>
          <a:blip r:embed="rId2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24-626"/>
          <p:cNvPicPr/>
          <p:nvPr/>
        </p:nvPicPr>
        <p:blipFill>
          <a:blip r:embed="rId3"/>
          <a:stretch/>
        </p:blipFill>
        <p:spPr>
          <a:xfrm>
            <a:off x="468360" y="260280"/>
            <a:ext cx="5448240" cy="6381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92720" y="0"/>
            <a:ext cx="3672000" cy="1052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ичьи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867280" y="1267920"/>
            <a:ext cx="345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ыжие бел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грали в горелк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ишь только мелькали хвосты!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веток на в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рыгали дет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 очень большой высот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Дети скакали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мамы считали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резвится ребят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так рабо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бились со счёта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Ты сосчитай-ка бельча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4-667"/>
          <p:cNvPicPr/>
          <p:nvPr/>
        </p:nvPicPr>
        <p:blipFill>
          <a:blip r:embed="rId1"/>
          <a:stretch/>
        </p:blipFill>
        <p:spPr>
          <a:xfrm>
            <a:off x="0" y="404640"/>
            <a:ext cx="5638680" cy="597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560" y="3499920"/>
            <a:ext cx="568980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Белки и оре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50560" y="4508280"/>
            <a:ext cx="4537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Белки для потехи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Щёлкали орехи.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Как расколется ор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лышен белок звонкий см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270"/>
          <p:cNvPicPr/>
          <p:nvPr/>
        </p:nvPicPr>
        <p:blipFill>
          <a:blip r:embed="rId1"/>
          <a:stretch/>
        </p:blipFill>
        <p:spPr>
          <a:xfrm>
            <a:off x="900000" y="189000"/>
            <a:ext cx="7734240" cy="3514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4788000" y="4581360"/>
            <a:ext cx="417672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осчитать бы только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Раскололи сколько?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Посчитай ещё и те,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то остались в скорлу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-360"/>
            <a:ext cx="4464000" cy="76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Золотые апельс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9640" y="836280"/>
            <a:ext cx="3600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ъем огромный апельсин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ещё один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можешь в вазе сосчитать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остаётся? ..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24-676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148360" y="62064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осмотри сперва на вазу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потом считай все сразу: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Если б я не ел со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их было?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337968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 пшеничном п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915920"/>
            <a:ext cx="2984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ышки в поле у ре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ли колос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Молодцы! Букет готов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в каждом колосков?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мышек в поле э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там из них с букетом?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то за бабочкой гонялся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 колоском одним остался?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4-641"/>
          <p:cNvPicPr/>
          <p:nvPr/>
        </p:nvPicPr>
        <p:blipFill>
          <a:blip r:embed="rId1"/>
          <a:stretch/>
        </p:blipFill>
        <p:spPr>
          <a:xfrm>
            <a:off x="3348000" y="549360"/>
            <a:ext cx="5567400" cy="5905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280" y="3933360"/>
            <a:ext cx="7488360" cy="505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Вы не бойтесь, кро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94920" y="4508640"/>
            <a:ext cx="331164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озле норки заскреблась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Потихоньку кошка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спугала всех мышат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еньких. Немножко?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се трясутся малыши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 не понарошку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Быстро все до одног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лезли под рогожку.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4-653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643280" y="4221000"/>
            <a:ext cx="3672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Им знаком усатый з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ет страшнее кошки!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Маловата в норку дверь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Вы не бойтесь, крошки!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Но малютки всё дрожат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Успокой их ты.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Коль не видишь здесь мышат,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Comic Sans MS"/>
              </a:rPr>
              <a:t>Сосчитай хвос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5344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Тянем-потян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700000" y="907560"/>
            <a:ext cx="41036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Репка выросла большая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от компания какая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обирает урожай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у-ка, всех их сосчит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4-659"/>
          <p:cNvPicPr/>
          <p:nvPr/>
        </p:nvPicPr>
        <p:blipFill>
          <a:blip r:embed="rId1"/>
          <a:stretch/>
        </p:blipFill>
        <p:spPr>
          <a:xfrm>
            <a:off x="826920" y="1949400"/>
            <a:ext cx="7704360" cy="4908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0920" y="4436640"/>
            <a:ext cx="5042160" cy="36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Comic Sans MS"/>
              </a:rPr>
              <a:t>Совушки и шля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94920" y="5013000"/>
            <a:ext cx="3887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Надевали совушки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ы на головушки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А одна всю ночь ле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Шляпу где-то потеря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4-662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407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822920" y="5013360"/>
            <a:ext cx="4321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 сидит одна. Сердита,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Голова-то непокрыта!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лювик вниз, поджала лапы.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Сколько сов надели шляп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4:26:21Z</dcterms:created>
  <dc:creator>лрвапшиывар</dc:creator>
  <dc:description/>
  <dc:language>en-US</dc:language>
  <cp:lastModifiedBy>ОЕМ</cp:lastModifiedBy>
  <dcterms:modified xsi:type="dcterms:W3CDTF">2010-01-20T07:50:26Z</dcterms:modified>
  <cp:revision>7</cp:revision>
  <dc:subject/>
  <dc:title>Автор стихов и рисунков Валентина Черняева</dc:title>
</cp:coreProperties>
</file>